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C167-1D5B-4FA7-B35A-07F01728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DDA-8E5C-45DB-93AE-82645CE4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181-1F9E-4F92-AA8F-CBF4EF9B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D00-C97F-4E53-88CF-FEB3897C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AA7-9DD3-472D-9B89-24F5283F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1CE-F5BD-4EAA-8F30-8F268B60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5F6-B351-43F4-8A04-C428D678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CE6-668B-453C-9A0A-2C6F572B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297-830E-43C4-8D8A-7DD0BEA0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E9C-E202-4A39-AC4F-C6DE0088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1C3-B742-4CAD-AE6D-9EBE261D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6F6-A81C-461E-845F-94EFFD52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63A4-7A8F-4FC5-8B48-5B03986B1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4 класс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885840"/>
            <a:ext cx="885672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"/>
          <p:cNvSpPr/>
          <p:nvPr/>
        </p:nvSpPr>
        <p:spPr>
          <a:xfrm>
            <a:off x="-52560" y="4869000"/>
            <a:ext cx="9196560" cy="2232000"/>
          </a:xfrm>
          <a:custGeom>
            <a:avLst/>
            <a:gdLst>
              <a:gd name="textAreaLeft" fmla="*/ 0 w 9196560"/>
              <a:gd name="textAreaRight" fmla="*/ 9196920 w 91965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dd0fc32575ct"/>
          <p:cNvPicPr/>
          <p:nvPr/>
        </p:nvPicPr>
        <p:blipFill>
          <a:blip r:embed="rId1"/>
          <a:stretch/>
        </p:blipFill>
        <p:spPr>
          <a:xfrm>
            <a:off x="277164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f81bd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4f81bd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arg-blue-left-tr"/>
          <p:cNvPicPr/>
          <p:nvPr/>
        </p:nvPicPr>
        <p:blipFill>
          <a:blip r:embed="rId2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ani-bird_red"/>
          <p:cNvPicPr/>
          <p:nvPr/>
        </p:nvPicPr>
        <p:blipFill>
          <a:blip r:embed="rId3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b13"/>
          <p:cNvPicPr/>
          <p:nvPr/>
        </p:nvPicPr>
        <p:blipFill>
          <a:blip r:embed="rId4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b13"/>
          <p:cNvPicPr/>
          <p:nvPr/>
        </p:nvPicPr>
        <p:blipFill>
          <a:blip r:embed="rId5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580000" y="278136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2" descr="B_Fly31"/>
          <p:cNvPicPr/>
          <p:nvPr/>
        </p:nvPicPr>
        <p:blipFill>
          <a:blip r:embed="rId6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B_Fly21"/>
          <p:cNvPicPr/>
          <p:nvPr/>
        </p:nvPicPr>
        <p:blipFill>
          <a:blip r:embed="rId7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B_Fly14"/>
          <p:cNvPicPr/>
          <p:nvPr/>
        </p:nvPicPr>
        <p:blipFill>
          <a:blip r:embed="rId8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b11"/>
          <p:cNvPicPr/>
          <p:nvPr/>
        </p:nvPicPr>
        <p:blipFill>
          <a:blip r:embed="rId9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b11"/>
          <p:cNvPicPr/>
          <p:nvPr/>
        </p:nvPicPr>
        <p:blipFill>
          <a:blip r:embed="rId10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232028.wav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1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4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1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8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 еще не родился, а уже думали: 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К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 Ч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Какое ему дать имя? Решили назвать –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мени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179280" y="172260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тицы  – нашы/и   друзь/ъя.   О/Ани  о/ахр. няют  п .ля  л .са (от)  вр.ди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/аж .лейте   п .рнатых   друзей!   П .м .гите   птицам   з .мой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023840" y="282600"/>
            <a:ext cx="77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00275"/>
                </a:solidFill>
                <a:latin typeface="Arial"/>
              </a:rPr>
              <a:t>Решить орфографическ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5640" y="1989000"/>
            <a:ext cx="175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о 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508720" y="1996920"/>
            <a:ext cx="172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093080" y="1989000"/>
            <a:ext cx="155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Рисунок1в"/>
          <p:cNvPicPr/>
          <p:nvPr/>
        </p:nvPicPr>
        <p:blipFill>
          <a:blip r:embed="rId1"/>
          <a:srcRect l="0" t="0" r="0" b="13781"/>
          <a:stretch/>
        </p:blipFill>
        <p:spPr>
          <a:xfrm>
            <a:off x="6877080" y="5084640"/>
            <a:ext cx="2266920" cy="1630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3640" y="1989000"/>
            <a:ext cx="3272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539640" y="333360"/>
            <a:ext cx="806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дежи русского языка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ди аналог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1626"/>
                </a:solidFill>
                <a:latin typeface="Arial"/>
              </a:rPr>
              <a:t>Чёрное – белое = огонь –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Война – смерть = …     - жиз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ысь – кошка = волк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ети – игра = взрослые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28760" y="60008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 лишнюю пару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бер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главных подходящих слов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280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ЛЕС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лист, яблоня, охотник, дерево, кустарник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ВОЙН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аэроплан, пушки, сражения, солдаты, ружьё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РЕК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берег, рыба, тина, рыболов, вод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Что объединяет данные  сло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На какие  группы можно их раздел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тавь пропущенные буквы. Спиши, подчеркн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шнее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78552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1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Х…зяйство, д…р…га, к…мбайн, ко….екти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од…езд, с…ёмка, в…юга, об…явл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2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Д…карь, д…ждинка, ж…стянка, кр…вин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а..ажир, Ро…ия, п…года, су..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Что объединяет все сл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2437"/>
                </a:solidFill>
                <a:latin typeface="Calibri"/>
              </a:rPr>
              <a:t>Языковая ра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тицы  – нашы/и   друзь/ъя.   О/Ани  о/ахр. няют  п .ля, л.са (от)  вр.дителей.По/аж .лейте   п .рнатых   друзей!   П .м .гите   птицам   з .мой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Что такое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а какие вопросы отвечают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5840" y="7858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Друг это человек, который всё поймёт и поможет. Друга не забудешь через года. Другу доверишь любую тайну. Я уважаю своего друга. Я горжусь другом. Многие мечтают о настоящем друг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очитайте текст. О чём он? Найдите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одственные существитель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571320"/>
            <a:ext cx="2400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 дру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928960" y="500040"/>
            <a:ext cx="214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му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е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О ко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57120" y="51436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 помощью вопросов определите падеж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500800" y="500040"/>
            <a:ext cx="2428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5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785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alibri"/>
              </a:rPr>
              <a:t>Склонение имён существительны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14200" y="40006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Что называется склон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колько падежей в русском языке? Назов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На какие вопросы отвечают падежи имён существитель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42920" y="0"/>
          <a:ext cx="8858160" cy="6961320"/>
        </p:xfrm>
        <a:graphic>
          <a:graphicData uri="http://schemas.openxmlformats.org/drawingml/2006/table">
            <a:tbl>
              <a:tblPr/>
              <a:tblGrid>
                <a:gridCol w="1714320"/>
                <a:gridCol w="1649520"/>
                <a:gridCol w="1738440"/>
                <a:gridCol w="3755880"/>
              </a:tblGrid>
              <a:tr h="13532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аде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ные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, возле, до, из, для, около, от, подле, с, у, вокруг, кро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йти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, 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ж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, за, про, через, в, на, 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, между, над, под, с, со, пер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, о, об, на, п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В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те и подчеркните в тексте          все имена существительные. Определи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здник леса.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Школа объявила праздник леса.Ребята собрались у подъезда школы. Каждый принёс лопату и ведро. Подъехала машина. Она привезла саженцы. Теперь они будут защищать дорогу от сне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1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раздник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ес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огда? во 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суббо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 (у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У подъезда – </a:t>
            </a:r>
            <a:r>
              <a:rPr b="1" i="1" lang="ru-RU" sz="2400" spc="-1" strike="noStrike">
                <a:solidFill>
                  <a:srgbClr val="ee2437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опа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Ведро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4.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Машин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аженц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Ёлочк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по чему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о сторонам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Д.п.      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рог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6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Дорог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  (от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От снег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С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пиши словосочетания, определ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адеж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ществ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2133720"/>
            <a:ext cx="8856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глядывает из-за куста(      ), скачет по дорожке(       ), поют песню(      ), открыл рот(      ), не боится волка(      ), провожают друга(        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Упр.1, стр.1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Выучить таблицу «Падежи» на стр.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903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1626"/>
                </a:solidFill>
                <a:latin typeface="Arial"/>
              </a:rPr>
              <a:t>Ляйсан Ильхам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77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7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о найти слово, от которого данное существительное завис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вопрос от этого слова к тому, падеж которого мы определя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я вопрос и вспомогательные слова, определить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50920" y="0"/>
            <a:ext cx="8569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Как узнать падеж имени существительного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0920" y="2492280"/>
            <a:ext cx="77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Найти  главное слово (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692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371628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.  От главного слова поставить падежный  вопрос к зависимому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85840" y="5143680"/>
            <a:ext cx="801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о вопросу определить паде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 rot="5400000">
            <a:off x="-2650680" y="3054960"/>
            <a:ext cx="645336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476360" y="765000"/>
            <a:ext cx="153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И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П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03640" y="907920"/>
            <a:ext cx="51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т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987640" y="1773360"/>
            <a:ext cx="50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771640" y="2781360"/>
            <a:ext cx="43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му? 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843280" y="364500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700360" y="4581360"/>
            <a:ext cx="45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ем? 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700360" y="551664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 ком? о чё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476360" y="476280"/>
            <a:ext cx="6192720" cy="5761080"/>
          </a:xfrm>
          <a:prstGeom prst="sun">
            <a:avLst>
              <a:gd name="adj" fmla="val 246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635280" y="2781360"/>
            <a:ext cx="360360" cy="288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5003640" y="2781360"/>
            <a:ext cx="360360" cy="28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572000" y="3213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6200000">
            <a:off x="4355280" y="3716640"/>
            <a:ext cx="36036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994" y="1146"/>
                  <a:pt x="6387" y="5080"/>
                  <a:pt x="6387" y="10800"/>
                </a:cubicBezTo>
                <a:cubicBezTo>
                  <a:pt x="6387" y="16520"/>
                  <a:pt x="13994" y="204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етские Песни - Дорогою Добра.mp3" descr=""/>
          <p:cNvPicPr/>
          <p:nvPr/>
        </p:nvPicPr>
        <p:blipFill>
          <a:blip r:embed="rId1"/>
          <a:stretch/>
        </p:blipFill>
        <p:spPr>
          <a:xfrm>
            <a:off x="79567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0957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50:49Z</dcterms:created>
  <dc:creator>333</dc:creator>
  <dc:description>З.В. Александрова  http://aida.ucoz.ru</dc:description>
  <dc:language>en-US</dc:language>
  <cp:lastModifiedBy>английский нач-кл</cp:lastModifiedBy>
  <dcterms:modified xsi:type="dcterms:W3CDTF">2012-11-12T16:54:00Z</dcterms:modified>
  <cp:revision>39</cp:revision>
  <dc:subject/>
  <dc:title>3 класс  Русский язык</dc:title>
</cp:coreProperties>
</file>